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CD7A-9151-448F-91C5-49F27C8A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CC9A-1EB2-4DBB-A0F8-6E113F9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9AF4-E6FB-49AC-9C85-1977C140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BC79-4B3A-4EF2-8C37-B0393329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175F-4234-4711-9BB2-F3545F93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A5B0-D22A-44B8-B0EE-6A792316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1A25-23DF-45B4-97E6-15B7E46B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140E-EC8B-4376-B069-68C03103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A050-95FE-4124-BFD6-8591AA7E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B0F3-68E3-4407-B198-9057954E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0739-D904-4012-90AA-EE32E879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E524-206D-45AC-8969-A30FB0C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44D8-A243-4375-A172-F766C10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8DE6-3A42-4B60-A49C-C7C54FA6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DD55-A5E9-4CF3-892D-3989D497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0686-F4B3-44A8-8B30-C108E439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B038-22F6-47BD-9AA3-3D3BDC3B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16D5-1975-4B2B-8DB5-152D0283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9C3D-E47C-4A13-B788-C7063027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27A0-DDB2-4919-8C92-3B30626B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185A-C3D3-4D92-AA82-117C33E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8E083-BCCA-4A48-992F-6D151EDE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10E9-E9F6-4A60-8B9F-EB63401C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37E19-78F9-4658-BB4D-B769A2CA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CC28-51A5-4E38-B28B-5EF49A3F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392A-856E-48DC-BAF6-FD42014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4B8B-D686-412D-AF1D-37D4BA4B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DE37-8C04-4702-875F-EC704A9C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C110-919C-42AF-B01A-59975FC1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6C0B-8885-4703-9A47-0366B670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738C-008B-4E35-B10A-1BE3F801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70E5-B999-450B-8C64-9193F478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8B99-D644-4F16-92AE-32485FE5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0680-5E01-44E6-ACE5-F2C6B6AA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A167-BBDF-4AAB-9010-DF6430AA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3BFE-B58B-47B7-BC80-397C964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9216"/>
          <a:stretch/>
        </p:blipFill>
        <p:spPr>
          <a:xfrm>
            <a:off x="0" y="0"/>
            <a:ext cx="9144000" cy="7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" y="55440"/>
            <a:ext cx="79092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0160" y="892080"/>
            <a:ext cx="875952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62027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20278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1225"/>
              </a:spcBef>
              <a:buClr>
                <a:srgbClr val="620278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225"/>
              </a:spcBef>
              <a:buClr>
                <a:srgbClr val="620278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225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225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95760" y="6593040"/>
            <a:ext cx="18478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0711-C407-435C-9179-50A58FA60F76}" type="slidenum">
              <a:rPr b="1" lang="zh-CN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648240" y="6590880"/>
            <a:ext cx="18475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360" y="6590880"/>
            <a:ext cx="18478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30400" y="1171440"/>
            <a:ext cx="3767400" cy="2165040"/>
            <a:chOff x="2930400" y="1171440"/>
            <a:chExt cx="3767400" cy="2165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930400" y="2604600"/>
              <a:ext cx="3176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691240" y="2622240"/>
              <a:ext cx="10065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063960" y="1214280"/>
              <a:ext cx="251604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5719680" y="1171440"/>
              <a:ext cx="689040" cy="19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B9D7-7011-426C-B8FE-247E2EB765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346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C7CD-7916-4442-8987-A8AC1B55C7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source.org/" TargetMode="External"/><Relationship Id="rId2" Type="http://schemas.openxmlformats.org/officeDocument/2006/relationships/hyperlink" Target="http://code.google.com/p/fastdfs/" TargetMode="External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余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运行时目录结构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tracker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${base_path}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    |__data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    |     |__storage_groups.da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存储分组信息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|     |__storage_servers.da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存储服务器列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|__logs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 |__trackerd.lo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tracker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日志文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运行时目录结构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${base_path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|__dat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|     |__.data_init_fla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当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初始化信息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|     |__storage_stat.d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当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统计信息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|     |__sy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存放数据同步相关文件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|     |     |__binlog.inde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当前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bin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文件索引号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|     |     |__binlog.###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存放更新操作记录（日志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|     |     |__${ip_addr}_${port}.mar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存放同步的完成情况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|     |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|     |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级目录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存放数据文件的目录，如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0, 1F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|           |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二级目录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存放数据文件的目录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|__logs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 |__storaged.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日志文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安装和运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step 1. download FastDFS source package and unpack i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 if you use HTTP to download file, please download libevent 1.4.x and install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tar xzf FastDFS_v1.x.tar.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tar xzf FastDFS_v1.20.tar.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step 2. enter the FastDFS 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cd FastD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step 3. if HTTP supported, modify make.sh, uncomment the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 WITH_HTTPD=1, then execu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./make.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step 4. make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./make.sh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step 5. edit/modify the config file of tracker and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step 6. run serve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start the tracker ser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/usr/local/bin/fdfs_trackerd &lt;tracker_conf_file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#start the storage ser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/usr/local/bin/fdfs_storaged &lt;storage_conf_file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和集中存储方式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8880" cy="4525200"/>
        </p:xfrm>
        <a:graphic>
          <a:graphicData uri="http://schemas.openxmlformats.org/drawingml/2006/table">
            <a:tbl>
              <a:tblPr/>
              <a:tblGrid>
                <a:gridCol w="2711160"/>
                <a:gridCol w="1608840"/>
                <a:gridCol w="1379520"/>
                <a:gridCol w="252936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stD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集中存储设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App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性扩容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文件高并发访问性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文件访问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专有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支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硬件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同内容文件只保存一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支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支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支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FastDF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mogileF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824360"/>
        </p:xfrm>
        <a:graphic>
          <a:graphicData uri="http://schemas.openxmlformats.org/drawingml/2006/table">
            <a:tbl>
              <a:tblPr/>
              <a:tblGrid>
                <a:gridCol w="2319480"/>
                <a:gridCol w="2846160"/>
                <a:gridCol w="306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stD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gile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系统简洁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简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只有两个角色：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cker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三个角色：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cker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age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存储文件信息的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sql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系统性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很高（没有使用数据库，文件同步直接点对点，不经过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cker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转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（使用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sql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来存储文件索引等信息，文件同步通过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cker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调度和中转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系统稳定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（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言开发，可以支持高并发和高负载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般（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l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言开发，高并发和高负载支持一般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组（组内冗余），灵活性较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态冗余，灵活性一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通信协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专有协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载文件支持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术文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详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文件附加属性（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 data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支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支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同内容文件只保存一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支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支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载文件时支持文件偏移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支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支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参考网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文：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csour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文：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code.google.com/p/fastdf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谢谢大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提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系统架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关术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步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信协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目录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安装和运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其他系统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一个轻量级的开源分布式文件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要解决了大容量的文件存储和高并发访问的问题，文件存取时实现了负载均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现了软件方式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RA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以使用廉价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ID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硬盘进行存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支持存储服务器在线扩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支持相同内容的文件只保存一份，节约磁盘空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只能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Client 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访问，不支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OSI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访问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FastDF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别适合大中型网站使用，用来存储资源文件（如：图片、文档、音频、视频等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系统架构－架构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360" y="1171440"/>
            <a:ext cx="5783400" cy="568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系统架构－上传文件流程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157640"/>
            <a:ext cx="82296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 cli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询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track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传到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torag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不需要附加参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 track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返回一台可用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torag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. cli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直接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torag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讯完成文件上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238640" cy="27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系统架构－下载文件流程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4098600"/>
            <a:ext cx="822960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 cli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询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track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载文件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torag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参数为文件标识（组名和文件名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 track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返回一台可用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torag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. cli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直接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torag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讯完成文件下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238640" cy="27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相关术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Tracker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跟踪服务器，主要做调度工作，在访问上起负载均衡的作用。记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状态，是连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Cli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枢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存储服务器，文件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meta dat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都保存到存储服务器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组，也可称为卷。同组内服务器上的文件是完全相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文件标识：包括两部分：组名和文件名（包含路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meta dat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文件相关属性，键值对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Key Value Pai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方式，如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width=1024,heigth=7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同步机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同一组内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间是对等的，文件上传、删除等操作可以在任意一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进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文件同步只在同组内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间进行，采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us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式，即源服务器同步给目标服务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头数据才需要同步，备份数据不需要再次同步，否则就构成环路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述第二条规则有个例外，就是新增加一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，由已有的一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storage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将已有的所有数据（包括源头数据和备份数据）同步给该新增服务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通信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协议包由两部分组成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head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head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节，格式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8 bytes body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 byte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 byt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bod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数据包格式由取决于具体的命令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bod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可以为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8:47:24Z</dcterms:created>
  <dc:creator>Hongwei Zeng</dc:creator>
  <dc:description/>
  <dc:language>en-US</dc:language>
  <cp:lastModifiedBy>Administrator</cp:lastModifiedBy>
  <dcterms:modified xsi:type="dcterms:W3CDTF">2009-09-13T14:14:23Z</dcterms:modified>
  <cp:revision>449</cp:revision>
  <dc:subject/>
  <dc:title>NBS-App-OpenAPI Interaction Example</dc:title>
</cp:coreProperties>
</file>